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DBA-C22D-4AF7-9952-5DE77F84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750-315F-45A2-8C82-A05C5C2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776-02B0-48C4-A28B-1C6F1A32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997-F3F2-4581-9872-EE22AEA2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886-2F29-473E-9FE2-C8E8849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3E9-5A65-431A-9690-19530F1D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4A6-C4ED-405B-9BDB-7360764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299-0196-4776-9847-1A9127B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E66-6F32-4C05-AEE2-A47D0F8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BD3-E8E1-4853-99C2-89224CCC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CBF-129E-44E7-BCD2-6A7C3E34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CBF-216A-4311-BA1D-AFB72CA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F4A-F9F9-439F-8998-DB0EB07D6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use Temper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381880" cy="48546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133720"/>
                <a:gridCol w="2133360"/>
              </a:tblGrid>
              <a:tr h="18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ite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ck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d5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3680" y="1143000"/>
          <a:ext cx="821520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143000"/>
                    <a:ext cx="821520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1:08:46Z</dcterms:created>
  <dc:creator>Laura</dc:creator>
  <dc:description/>
  <dc:language>en-US</dc:language>
  <cp:lastModifiedBy>Ps 149</cp:lastModifiedBy>
  <dcterms:modified xsi:type="dcterms:W3CDTF">2011-01-20T07:08:58Z</dcterms:modified>
  <cp:revision>3</cp:revision>
  <dc:subject/>
  <dc:title>House Temperatures</dc:title>
</cp:coreProperties>
</file>